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35.gif" ContentType="image/gif"/>
  <Override PartName="/ppt/media/image23.gif" ContentType="image/gif"/>
  <Override PartName="/ppt/media/image21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9.png" ContentType="image/png"/>
  <Override PartName="/ppt/media/image26.gif" ContentType="image/gif"/>
  <Override PartName="/ppt/media/image27.gif" ContentType="image/gif"/>
  <Override PartName="/ppt/media/image8.png" ContentType="image/png"/>
  <Override PartName="/ppt/media/image11.gif" ContentType="image/gif"/>
  <Override PartName="/ppt/media/image4.gif" ContentType="image/gif"/>
  <Override PartName="/ppt/media/image34.gif" ContentType="image/gif"/>
  <Override PartName="/ppt/media/image10.gif" ContentType="image/gif"/>
  <Override PartName="/ppt/media/image12.jpeg" ContentType="image/jpeg"/>
  <Override PartName="/ppt/media/image7.gif" ContentType="image/gif"/>
  <Override PartName="/ppt/media/image37.gif" ContentType="image/gif"/>
  <Override PartName="/ppt/media/image13.gif" ContentType="image/gif"/>
  <Override PartName="/ppt/media/image9.gif" ContentType="image/gif"/>
  <Override PartName="/ppt/media/image39.gif" ContentType="image/gif"/>
  <Override PartName="/ppt/media/image30.png" ContentType="image/png"/>
  <Override PartName="/ppt/media/image38.gif" ContentType="image/gif"/>
  <Override PartName="/ppt/media/image33.gif" ContentType="image/gif"/>
  <Override PartName="/ppt/media/image3.gif" ContentType="image/gif"/>
  <Override PartName="/ppt/media/image29.png" ContentType="image/png"/>
  <Override PartName="/ppt/media/image36.gif" ContentType="image/gif"/>
  <Override PartName="/ppt/media/image6.gif" ContentType="image/gif"/>
  <Override PartName="/ppt/media/image2.png" ContentType="image/png"/>
  <Override PartName="/ppt/media/image32.gif" ContentType="image/gif"/>
  <Override PartName="/ppt/media/image25.png" ContentType="image/png"/>
  <Override PartName="/ppt/media/image31.gif" ContentType="image/gif"/>
  <Override PartName="/ppt/media/image1.gif" ContentType="image/gif"/>
  <Override PartName="/ppt/media/image24.gif" ContentType="image/gif"/>
  <Override PartName="/ppt/media/image14.gif" ContentType="image/gif"/>
  <Override PartName="/ppt/media/image22.gif" ContentType="image/gif"/>
  <Override PartName="/ppt/media/image15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6F3-BA0B-4530-A39E-6CD3A062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57D9-4534-4A4F-9C91-5942223C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C89-37AC-49D7-86D6-93C9E3BD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FC0-7CA9-4D91-B07C-6118275C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FBD-8AD2-4494-997B-019B2E91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93CF-62AC-45BD-AA4D-97434C5A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5B3-97BA-49D2-B1BF-CF60E1A8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A674-6F18-43DB-8A8D-772906DB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7F8-0D33-4F20-85F4-C7901DE5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ED11-D011-4E95-B317-EE0322FD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4BE2-74E1-4CEF-8365-6AA07B90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97C-E4FF-43C9-9A38-5C8665B2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9313-893E-4B29-A58A-222CEEC11A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5.gif"/><Relationship Id="rId5" Type="http://schemas.openxmlformats.org/officeDocument/2006/relationships/image" Target="../media/image3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16.gif"/><Relationship Id="rId11" Type="http://schemas.openxmlformats.org/officeDocument/2006/relationships/image" Target="../media/image27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8.png"/><Relationship Id="rId6" Type="http://schemas.openxmlformats.org/officeDocument/2006/relationships/image" Target="../media/image1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5.png"/><Relationship Id="rId13" Type="http://schemas.openxmlformats.org/officeDocument/2006/relationships/image" Target="../media/image17.gif"/><Relationship Id="rId14" Type="http://schemas.openxmlformats.org/officeDocument/2006/relationships/image" Target="../media/image17.gif"/><Relationship Id="rId15" Type="http://schemas.openxmlformats.org/officeDocument/2006/relationships/image" Target="../media/image19.png"/><Relationship Id="rId16" Type="http://schemas.openxmlformats.org/officeDocument/2006/relationships/image" Target="../media/image17.gif"/><Relationship Id="rId17" Type="http://schemas.openxmlformats.org/officeDocument/2006/relationships/image" Target="../media/image17.gif"/><Relationship Id="rId18" Type="http://schemas.openxmlformats.org/officeDocument/2006/relationships/image" Target="../media/image17.gif"/><Relationship Id="rId19" Type="http://schemas.openxmlformats.org/officeDocument/2006/relationships/image" Target="../media/image17.gif"/><Relationship Id="rId20" Type="http://schemas.openxmlformats.org/officeDocument/2006/relationships/image" Target="../media/image1.gif"/><Relationship Id="rId21" Type="http://schemas.openxmlformats.org/officeDocument/2006/relationships/image" Target="../media/image12.jpeg"/><Relationship Id="rId22" Type="http://schemas.openxmlformats.org/officeDocument/2006/relationships/image" Target="../media/image12.jpeg"/><Relationship Id="rId23" Type="http://schemas.openxmlformats.org/officeDocument/2006/relationships/image" Target="../media/image16.gif"/><Relationship Id="rId24" Type="http://schemas.openxmlformats.org/officeDocument/2006/relationships/image" Target="../media/image16.gif"/><Relationship Id="rId25" Type="http://schemas.openxmlformats.org/officeDocument/2006/relationships/image" Target="../media/image16.gif"/><Relationship Id="rId26" Type="http://schemas.openxmlformats.org/officeDocument/2006/relationships/image" Target="../media/image16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38.gif"/><Relationship Id="rId3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7.gif"/><Relationship Id="rId11" Type="http://schemas.openxmlformats.org/officeDocument/2006/relationships/image" Target="../media/image8.png"/><Relationship Id="rId12" Type="http://schemas.openxmlformats.org/officeDocument/2006/relationships/image" Target="../media/image9.gif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1.gif"/><Relationship Id="rId17" Type="http://schemas.openxmlformats.org/officeDocument/2006/relationships/image" Target="../media/image7.gif"/><Relationship Id="rId18" Type="http://schemas.openxmlformats.org/officeDocument/2006/relationships/image" Target="../media/image4.gif"/><Relationship Id="rId19" Type="http://schemas.openxmlformats.org/officeDocument/2006/relationships/image" Target="../media/image10.gif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11.gif"/><Relationship Id="rId23" Type="http://schemas.openxmlformats.org/officeDocument/2006/relationships/image" Target="../media/image12.jpeg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image" Target="../media/image13.gif"/><Relationship Id="rId27" Type="http://schemas.openxmlformats.org/officeDocument/2006/relationships/image" Target="../media/image14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5.png"/><Relationship Id="rId31" Type="http://schemas.openxmlformats.org/officeDocument/2006/relationships/image" Target="../media/image16.gif"/><Relationship Id="rId32" Type="http://schemas.openxmlformats.org/officeDocument/2006/relationships/image" Target="../media/image17.gif"/><Relationship Id="rId33" Type="http://schemas.openxmlformats.org/officeDocument/2006/relationships/image" Target="../media/image17.gif"/><Relationship Id="rId34" Type="http://schemas.openxmlformats.org/officeDocument/2006/relationships/image" Target="../media/image18.gif"/><Relationship Id="rId35" Type="http://schemas.openxmlformats.org/officeDocument/2006/relationships/image" Target="../media/image19.png"/><Relationship Id="rId3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image" Target="../media/image20.gif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7.gif"/><Relationship Id="rId10" Type="http://schemas.openxmlformats.org/officeDocument/2006/relationships/image" Target="../media/image21.gif"/><Relationship Id="rId11" Type="http://schemas.openxmlformats.org/officeDocument/2006/relationships/image" Target="../media/image3.gif"/><Relationship Id="rId12" Type="http://schemas.openxmlformats.org/officeDocument/2006/relationships/image" Target="../media/image2.png"/><Relationship Id="rId13" Type="http://schemas.openxmlformats.org/officeDocument/2006/relationships/image" Target="../media/image22.gif"/><Relationship Id="rId14" Type="http://schemas.openxmlformats.org/officeDocument/2006/relationships/image" Target="../media/image23.gif"/><Relationship Id="rId15" Type="http://schemas.openxmlformats.org/officeDocument/2006/relationships/image" Target="../media/image24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3.gif"/><Relationship Id="rId4" Type="http://schemas.openxmlformats.org/officeDocument/2006/relationships/image" Target="../media/image7.gif"/><Relationship Id="rId5" Type="http://schemas.openxmlformats.org/officeDocument/2006/relationships/image" Target="../media/image27.gif"/><Relationship Id="rId6" Type="http://schemas.openxmlformats.org/officeDocument/2006/relationships/image" Target="../media/image11.gif"/><Relationship Id="rId7" Type="http://schemas.openxmlformats.org/officeDocument/2006/relationships/image" Target="../media/image14.gif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13.gi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7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gif"/><Relationship Id="rId3" Type="http://schemas.openxmlformats.org/officeDocument/2006/relationships/image" Target="../media/image15.png"/><Relationship Id="rId4" Type="http://schemas.openxmlformats.org/officeDocument/2006/relationships/image" Target="../media/image17.gif"/><Relationship Id="rId5" Type="http://schemas.openxmlformats.org/officeDocument/2006/relationships/image" Target="../media/image31.gif"/><Relationship Id="rId6" Type="http://schemas.openxmlformats.org/officeDocument/2006/relationships/image" Target="../media/image1.gif"/><Relationship Id="rId7" Type="http://schemas.openxmlformats.org/officeDocument/2006/relationships/image" Target="../media/image32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عمل المع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000000"/>
                </a:solidFill>
                <a:latin typeface="Arial"/>
              </a:rPr>
              <a:t>أحمد ياس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000000"/>
                </a:solidFill>
                <a:latin typeface="Arial"/>
              </a:rPr>
              <a:t>مع أمنياتي لكم بالتوفي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7280" y="0"/>
            <a:ext cx="7274160" cy="2060640"/>
          </a:xfrm>
          <a:prstGeom prst="irregularSeal2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59280" y="404640"/>
            <a:ext cx="36003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33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قسم الأدوات المدرسية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933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411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305920" y="2133720"/>
            <a:ext cx="838080" cy="876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093080" y="2793960"/>
            <a:ext cx="1295280" cy="851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3132000" y="2276640"/>
            <a:ext cx="2881440" cy="1223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7236000" y="1989000"/>
            <a:ext cx="1554120" cy="1368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77080" y="3645000"/>
            <a:ext cx="1655640" cy="1434600"/>
          </a:xfrm>
          <a:prstGeom prst="rect">
            <a:avLst/>
          </a:prstGeom>
          <a:solidFill>
            <a:srgbClr val="72f1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كت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3645000"/>
            <a:ext cx="2304720" cy="1191240"/>
          </a:xfrm>
          <a:prstGeom prst="rect">
            <a:avLst/>
          </a:prstGeom>
          <a:solidFill>
            <a:srgbClr val="f3c1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دوات الرس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0" y="2205000"/>
            <a:ext cx="3097080" cy="895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0" y="2637000"/>
            <a:ext cx="3097080" cy="895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08000" y="3645000"/>
            <a:ext cx="208764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أقلا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5364000" y="4292640"/>
            <a:ext cx="2305080" cy="2565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6516720" y="5445000"/>
            <a:ext cx="1160280" cy="1413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0"/>
          <a:stretch/>
        </p:blipFill>
        <p:spPr>
          <a:xfrm>
            <a:off x="5867280" y="2565360"/>
            <a:ext cx="1511280" cy="649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1332000" y="4221000"/>
            <a:ext cx="2268360" cy="2637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292720" y="2205000"/>
            <a:ext cx="1222560" cy="504720"/>
          </a:xfrm>
          <a:prstGeom prst="wedgeRectCallout">
            <a:avLst>
              <a:gd name="adj1" fmla="val 72337"/>
              <a:gd name="adj2" fmla="val 69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700280"/>
            <a:ext cx="1258920" cy="504720"/>
          </a:xfrm>
          <a:prstGeom prst="wedgeRectCallout">
            <a:avLst>
              <a:gd name="adj1" fmla="val 71689"/>
              <a:gd name="adj2" fmla="val 69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43640" y="1700280"/>
            <a:ext cx="1297080" cy="504720"/>
          </a:xfrm>
          <a:prstGeom prst="wedgeRectCallout">
            <a:avLst>
              <a:gd name="adj1" fmla="val 71050"/>
              <a:gd name="adj2" fmla="val 69495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2276640"/>
            <a:ext cx="1079640" cy="504720"/>
          </a:xfrm>
          <a:prstGeom prst="wedgeRectCallout">
            <a:avLst>
              <a:gd name="adj1" fmla="val 75296"/>
              <a:gd name="adj2" fmla="val 69495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651640" y="5373720"/>
            <a:ext cx="433080" cy="1052640"/>
          </a:xfrm>
          <a:prstGeom prst="flowChartTermina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43640" y="5373720"/>
            <a:ext cx="433440" cy="1052640"/>
          </a:xfrm>
          <a:prstGeom prst="flowChartTerminator">
            <a:avLst/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73080"/>
            <a:ext cx="5400720" cy="476280"/>
          </a:xfrm>
          <a:prstGeom prst="flowChartProcess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ff"/>
                </a:solidFill>
                <a:latin typeface="Arial"/>
              </a:rPr>
              <a:t>دكان الأما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0"/>
            <a:ext cx="144360" cy="3213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8605080" y="0"/>
            <a:ext cx="142920" cy="306864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300720" y="620640"/>
            <a:ext cx="1368360" cy="863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851280" y="62064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580000" y="1989000"/>
            <a:ext cx="647640" cy="324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3348000" y="2060640"/>
            <a:ext cx="1008000" cy="366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3276720" y="146160"/>
            <a:ext cx="1728720" cy="403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7956720" y="1413000"/>
            <a:ext cx="434880" cy="495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740720" y="620640"/>
            <a:ext cx="736560" cy="608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4427640" y="549360"/>
            <a:ext cx="1081080" cy="790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9"/>
          <a:stretch/>
        </p:blipFill>
        <p:spPr>
          <a:xfrm>
            <a:off x="3276720" y="1268280"/>
            <a:ext cx="5256000" cy="141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0"/>
          <a:stretch/>
        </p:blipFill>
        <p:spPr>
          <a:xfrm>
            <a:off x="3276720" y="1916280"/>
            <a:ext cx="5327640" cy="2412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1"/>
          <a:stretch/>
        </p:blipFill>
        <p:spPr>
          <a:xfrm>
            <a:off x="3348000" y="2349360"/>
            <a:ext cx="5256360" cy="238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2"/>
          <a:stretch/>
        </p:blipFill>
        <p:spPr>
          <a:xfrm>
            <a:off x="7105680" y="1413000"/>
            <a:ext cx="274680" cy="503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3"/>
          <a:stretch/>
        </p:blipFill>
        <p:spPr>
          <a:xfrm>
            <a:off x="5435640" y="907920"/>
            <a:ext cx="276120" cy="935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4"/>
          <a:stretch/>
        </p:blipFill>
        <p:spPr>
          <a:xfrm>
            <a:off x="7380360" y="1341360"/>
            <a:ext cx="644400" cy="432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5"/>
          <a:stretch/>
        </p:blipFill>
        <p:spPr>
          <a:xfrm>
            <a:off x="5003640" y="476280"/>
            <a:ext cx="1494000" cy="792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6"/>
          <a:stretch/>
        </p:blipFill>
        <p:spPr>
          <a:xfrm>
            <a:off x="5219640" y="1052640"/>
            <a:ext cx="255600" cy="865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7"/>
          <a:stretch/>
        </p:blipFill>
        <p:spPr>
          <a:xfrm>
            <a:off x="4932360" y="1052640"/>
            <a:ext cx="233280" cy="792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8"/>
          <a:stretch/>
        </p:blipFill>
        <p:spPr>
          <a:xfrm>
            <a:off x="4572000" y="1052640"/>
            <a:ext cx="276120" cy="934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9"/>
          <a:stretch/>
        </p:blipFill>
        <p:spPr>
          <a:xfrm>
            <a:off x="3492360" y="476280"/>
            <a:ext cx="360360" cy="12193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0"/>
          <a:stretch/>
        </p:blipFill>
        <p:spPr>
          <a:xfrm>
            <a:off x="6012000" y="1341360"/>
            <a:ext cx="215640" cy="647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1"/>
          <a:stretch/>
        </p:blipFill>
        <p:spPr>
          <a:xfrm>
            <a:off x="6516720" y="1268280"/>
            <a:ext cx="19368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2"/>
          <a:stretch/>
        </p:blipFill>
        <p:spPr>
          <a:xfrm>
            <a:off x="6227640" y="134136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3"/>
          <a:stretch/>
        </p:blipFill>
        <p:spPr>
          <a:xfrm>
            <a:off x="7740720" y="1989000"/>
            <a:ext cx="861840" cy="381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4"/>
          <a:stretch/>
        </p:blipFill>
        <p:spPr>
          <a:xfrm>
            <a:off x="7308720" y="1989000"/>
            <a:ext cx="862200" cy="381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5"/>
          <a:stretch/>
        </p:blipFill>
        <p:spPr>
          <a:xfrm>
            <a:off x="7020000" y="1989000"/>
            <a:ext cx="861840" cy="381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6"/>
          <a:stretch/>
        </p:blipFill>
        <p:spPr>
          <a:xfrm>
            <a:off x="6732720" y="1989000"/>
            <a:ext cx="861840" cy="381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7"/>
          <a:stretch/>
        </p:blipFill>
        <p:spPr>
          <a:xfrm>
            <a:off x="6156360" y="1989000"/>
            <a:ext cx="647640" cy="324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8"/>
          <a:stretch/>
        </p:blipFill>
        <p:spPr>
          <a:xfrm>
            <a:off x="5148360" y="1989000"/>
            <a:ext cx="647640" cy="324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9"/>
          <a:stretch/>
        </p:blipFill>
        <p:spPr>
          <a:xfrm>
            <a:off x="4356000" y="1989000"/>
            <a:ext cx="647640" cy="324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flipH="1">
            <a:off x="3348000" y="549360"/>
            <a:ext cx="5184720" cy="2590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49360"/>
            <a:ext cx="5256360" cy="251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11640" y="1341360"/>
            <a:ext cx="2808360" cy="865440"/>
          </a:xfrm>
          <a:prstGeom prst="flowChartTerminator">
            <a:avLst/>
          </a:prstGeom>
          <a:gradFill rotWithShape="0">
            <a:gsLst>
              <a:gs pos="0">
                <a:srgbClr val="f3c1f7"/>
              </a:gs>
              <a:gs pos="50000">
                <a:srgbClr val="ffffff"/>
              </a:gs>
              <a:gs pos="100000">
                <a:srgbClr val="f3c1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دكان مغل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4724280"/>
            <a:ext cx="3168720" cy="18716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3429000"/>
            <a:ext cx="288720" cy="1584360"/>
          </a:xfrm>
          <a:prstGeom prst="flowChartTerminator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2565360"/>
            <a:ext cx="792000" cy="86364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1619640" y="3643560"/>
            <a:ext cx="1079640" cy="1224000"/>
          </a:xfrm>
          <a:prstGeom prst="flowChartDelay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6021360"/>
            <a:ext cx="504720" cy="50328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5445000"/>
            <a:ext cx="288720" cy="28764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5445000"/>
            <a:ext cx="289080" cy="36036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2852640"/>
            <a:ext cx="216000" cy="21600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2852640"/>
            <a:ext cx="215640" cy="21600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2852640"/>
            <a:ext cx="216000" cy="21600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256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820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1456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0"/>
            <a:ext cx="1871640" cy="2852640"/>
          </a:xfrm>
          <a:prstGeom prst="cloudCallout">
            <a:avLst>
              <a:gd name="adj1" fmla="val -65435"/>
              <a:gd name="adj2" fmla="val 46773"/>
            </a:avLst>
          </a:prstGeom>
          <a:gradFill rotWithShape="0">
            <a:gsLst>
              <a:gs pos="0">
                <a:srgbClr val="72f15d"/>
              </a:gs>
              <a:gs pos="50000">
                <a:srgbClr val="ffffff"/>
              </a:gs>
              <a:gs pos="100000">
                <a:srgbClr val="72f15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له أكبر قد قامت الصل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24720" y="4508640"/>
            <a:ext cx="433440" cy="10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43640" y="4869000"/>
            <a:ext cx="432000" cy="57600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12000" y="5229360"/>
            <a:ext cx="433080" cy="10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24720" y="4005360"/>
            <a:ext cx="432000" cy="57600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80000" y="4797360"/>
            <a:ext cx="432000" cy="57636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028000" y="4437000"/>
            <a:ext cx="433440" cy="1052640"/>
          </a:xfrm>
          <a:prstGeom prst="flowChartTerminator">
            <a:avLst/>
          </a:prstGeom>
          <a:gradFill rotWithShape="0">
            <a:gsLst>
              <a:gs pos="0">
                <a:srgbClr val="9d6f1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028000" y="3933720"/>
            <a:ext cx="431640" cy="57636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2000" y="4724280"/>
            <a:ext cx="431640" cy="57636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0"/>
          <a:stretch/>
        </p:blipFill>
        <p:spPr>
          <a:xfrm flipH="1">
            <a:off x="3850920" y="5734080"/>
            <a:ext cx="865080" cy="1123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24000" y="1916280"/>
            <a:ext cx="647640" cy="863280"/>
          </a:xfrm>
          <a:prstGeom prst="flowChartExtra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084720" y="2637000"/>
            <a:ext cx="1967040" cy="1366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 rot="19006800">
            <a:off x="0" y="2060280"/>
            <a:ext cx="7296120" cy="21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63df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شكراً لحسن استماعكم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463df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لتعلم من خلال النشاط</a:t>
            </a:r>
            <a:br>
              <a:rPr sz="4000"/>
            </a:b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ستراتيجية المشرو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تم تنفيذ المشروع بإحضار الأدوات الموجودة في العرض التقديمي داخل غرفة الصف والقيام بعملية البيع والشراء من قبل الطلا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47640" y="260280"/>
            <a:ext cx="6409080" cy="3529080"/>
          </a:xfrm>
          <a:prstGeom prst="cloudCallout">
            <a:avLst>
              <a:gd name="adj1" fmla="val -111"/>
              <a:gd name="adj2" fmla="val 34074"/>
            </a:avLst>
          </a:pr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3366ff"/>
                </a:solidFill>
                <a:latin typeface="Arial"/>
              </a:rPr>
              <a:t>المشروع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4581360"/>
            <a:ext cx="7561080" cy="1800360"/>
          </a:xfrm>
          <a:prstGeom prst="flowChartTerminator">
            <a:avLst/>
          </a:prstGeom>
          <a:gradFill rotWithShape="0">
            <a:gsLst>
              <a:gs pos="0">
                <a:srgbClr val="33cc33"/>
              </a:gs>
              <a:gs pos="5000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9900ff"/>
                </a:solidFill>
                <a:latin typeface="Arial"/>
              </a:rPr>
              <a:t>دكان الأمانة لِصاحبه ابو محم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172360" y="2997360"/>
            <a:ext cx="432000" cy="57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0"/>
            <a:ext cx="8137800" cy="907920"/>
          </a:xfrm>
          <a:prstGeom prst="flowChartProcess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44280"/>
            <a:ext cx="56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66ff"/>
                </a:solidFill>
                <a:latin typeface="Arial"/>
              </a:rPr>
              <a:t>دكان الأمان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0"/>
            <a:ext cx="2887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675640" y="0"/>
            <a:ext cx="2509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2492280"/>
            <a:ext cx="8136000" cy="358920"/>
          </a:xfrm>
          <a:custGeom>
            <a:avLst/>
            <a:gdLst>
              <a:gd name="textAreaLeft" fmla="*/ 23040 w 8136000"/>
              <a:gd name="textAreaRight" fmla="*/ 8112960 w 813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89160" h="21600">
                <a:moveTo>
                  <a:pt x="0" y="0"/>
                </a:moveTo>
                <a:lnTo>
                  <a:pt x="489160" y="0"/>
                </a:lnTo>
                <a:lnTo>
                  <a:pt x="489160" y="21600"/>
                </a:lnTo>
                <a:lnTo>
                  <a:pt x="0" y="21600"/>
                </a:lnTo>
                <a:close/>
              </a:path>
              <a:path fill="lightenLess" w="489160" h="21600">
                <a:moveTo>
                  <a:pt x="0" y="0"/>
                </a:moveTo>
                <a:lnTo>
                  <a:pt x="489160" y="0"/>
                </a:lnTo>
                <a:lnTo>
                  <a:pt x="487760" y="1400"/>
                </a:lnTo>
                <a:lnTo>
                  <a:pt x="1400" y="1400"/>
                </a:lnTo>
                <a:close/>
              </a:path>
              <a:path fill="darken" w="489160" h="21600">
                <a:moveTo>
                  <a:pt x="489160" y="0"/>
                </a:moveTo>
                <a:lnTo>
                  <a:pt x="489160" y="21600"/>
                </a:lnTo>
                <a:lnTo>
                  <a:pt x="487760" y="20200"/>
                </a:lnTo>
                <a:lnTo>
                  <a:pt x="487760" y="1400"/>
                </a:lnTo>
                <a:close/>
              </a:path>
              <a:path fill="darkenLess" w="489160" h="21600">
                <a:moveTo>
                  <a:pt x="48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7760" y="20200"/>
                </a:lnTo>
                <a:close/>
              </a:path>
              <a:path fill="lighten" w="48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076640"/>
            <a:ext cx="8136000" cy="360360"/>
          </a:xfrm>
          <a:custGeom>
            <a:avLst/>
            <a:gdLst>
              <a:gd name="textAreaLeft" fmla="*/ 23040 w 8136000"/>
              <a:gd name="textAreaRight" fmla="*/ 8112960 w 813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87207" h="21600">
                <a:moveTo>
                  <a:pt x="0" y="0"/>
                </a:moveTo>
                <a:lnTo>
                  <a:pt x="487207" y="0"/>
                </a:lnTo>
                <a:lnTo>
                  <a:pt x="487207" y="21600"/>
                </a:lnTo>
                <a:lnTo>
                  <a:pt x="0" y="21600"/>
                </a:lnTo>
                <a:close/>
              </a:path>
              <a:path fill="lightenLess" w="487207" h="21600">
                <a:moveTo>
                  <a:pt x="0" y="0"/>
                </a:moveTo>
                <a:lnTo>
                  <a:pt x="487207" y="0"/>
                </a:lnTo>
                <a:lnTo>
                  <a:pt x="485807" y="1400"/>
                </a:lnTo>
                <a:lnTo>
                  <a:pt x="1400" y="1400"/>
                </a:lnTo>
                <a:close/>
              </a:path>
              <a:path fill="darken" w="487207" h="21600">
                <a:moveTo>
                  <a:pt x="487207" y="0"/>
                </a:moveTo>
                <a:lnTo>
                  <a:pt x="487207" y="21600"/>
                </a:lnTo>
                <a:lnTo>
                  <a:pt x="485807" y="20200"/>
                </a:lnTo>
                <a:lnTo>
                  <a:pt x="485807" y="1400"/>
                </a:lnTo>
                <a:close/>
              </a:path>
              <a:path fill="darkenLess" w="487207" h="21600">
                <a:moveTo>
                  <a:pt x="4872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807" y="20200"/>
                </a:lnTo>
                <a:close/>
              </a:path>
              <a:path fill="lighten" w="4872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805360"/>
            <a:ext cx="8207640" cy="360360"/>
          </a:xfrm>
          <a:custGeom>
            <a:avLst/>
            <a:gdLst>
              <a:gd name="textAreaLeft" fmla="*/ 23040 w 8207640"/>
              <a:gd name="textAreaRight" fmla="*/ 8184600 w 820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91497" h="21600">
                <a:moveTo>
                  <a:pt x="0" y="0"/>
                </a:moveTo>
                <a:lnTo>
                  <a:pt x="491497" y="0"/>
                </a:lnTo>
                <a:lnTo>
                  <a:pt x="491497" y="21600"/>
                </a:lnTo>
                <a:lnTo>
                  <a:pt x="0" y="21600"/>
                </a:lnTo>
                <a:close/>
              </a:path>
              <a:path fill="lightenLess" w="491497" h="21600">
                <a:moveTo>
                  <a:pt x="0" y="0"/>
                </a:moveTo>
                <a:lnTo>
                  <a:pt x="491497" y="0"/>
                </a:lnTo>
                <a:lnTo>
                  <a:pt x="490097" y="1400"/>
                </a:lnTo>
                <a:lnTo>
                  <a:pt x="1400" y="1400"/>
                </a:lnTo>
                <a:close/>
              </a:path>
              <a:path fill="darken" w="491497" h="21600">
                <a:moveTo>
                  <a:pt x="491497" y="0"/>
                </a:moveTo>
                <a:lnTo>
                  <a:pt x="491497" y="21600"/>
                </a:lnTo>
                <a:lnTo>
                  <a:pt x="490097" y="20200"/>
                </a:lnTo>
                <a:lnTo>
                  <a:pt x="490097" y="1400"/>
                </a:lnTo>
                <a:close/>
              </a:path>
              <a:path fill="darkenLess" w="491497" h="21600">
                <a:moveTo>
                  <a:pt x="491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097" y="20200"/>
                </a:lnTo>
                <a:close/>
              </a:path>
              <a:path fill="lighten" w="491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136872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484360" y="1052640"/>
            <a:ext cx="2160720" cy="13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71640" y="2852640"/>
            <a:ext cx="1655640" cy="1022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572000" y="4508640"/>
            <a:ext cx="2592360" cy="136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39640" y="4508640"/>
            <a:ext cx="3095640" cy="720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539640" y="5084640"/>
            <a:ext cx="3240360" cy="793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611280" y="2924280"/>
            <a:ext cx="1152360" cy="1022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1547640" y="2997360"/>
            <a:ext cx="1656000" cy="102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684360" y="1052640"/>
            <a:ext cx="1065240" cy="127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682560" y="73080"/>
            <a:ext cx="1728720" cy="834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1280" y="443700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7380360" y="3141720"/>
            <a:ext cx="934920" cy="100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7812000" y="2852640"/>
            <a:ext cx="435240" cy="495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7524720" y="2852640"/>
            <a:ext cx="287280" cy="863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7308720" y="314172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7"/>
          <a:stretch/>
        </p:blipFill>
        <p:spPr>
          <a:xfrm>
            <a:off x="539640" y="1197000"/>
            <a:ext cx="1224000" cy="127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8"/>
          <a:stretch/>
        </p:blipFill>
        <p:spPr>
          <a:xfrm>
            <a:off x="1476360" y="2852640"/>
            <a:ext cx="719280" cy="951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9"/>
          <a:stretch/>
        </p:blipFill>
        <p:spPr>
          <a:xfrm>
            <a:off x="7308720" y="1197000"/>
            <a:ext cx="1168560" cy="1255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0"/>
          <a:stretch/>
        </p:blipFill>
        <p:spPr>
          <a:xfrm>
            <a:off x="5867280" y="1628640"/>
            <a:ext cx="1368720" cy="863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1"/>
          <a:stretch/>
        </p:blipFill>
        <p:spPr>
          <a:xfrm>
            <a:off x="5796000" y="1773360"/>
            <a:ext cx="1368360" cy="863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2"/>
          <a:stretch/>
        </p:blipFill>
        <p:spPr>
          <a:xfrm>
            <a:off x="4067280" y="1125360"/>
            <a:ext cx="1655640" cy="1368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3"/>
          <a:stretch/>
        </p:blipFill>
        <p:spPr>
          <a:xfrm>
            <a:off x="2843280" y="2997360"/>
            <a:ext cx="1584360" cy="1071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4"/>
          <a:stretch/>
        </p:blipFill>
        <p:spPr>
          <a:xfrm>
            <a:off x="539640" y="2421000"/>
            <a:ext cx="8136000" cy="366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5"/>
          <a:stretch/>
        </p:blipFill>
        <p:spPr>
          <a:xfrm>
            <a:off x="539640" y="4076640"/>
            <a:ext cx="8136000" cy="366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6"/>
          <a:stretch/>
        </p:blipFill>
        <p:spPr>
          <a:xfrm>
            <a:off x="611280" y="5805360"/>
            <a:ext cx="8136000" cy="366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7"/>
          <a:stretch/>
        </p:blipFill>
        <p:spPr>
          <a:xfrm>
            <a:off x="1692360" y="981000"/>
            <a:ext cx="647640" cy="1387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8"/>
          <a:stretch/>
        </p:blipFill>
        <p:spPr>
          <a:xfrm>
            <a:off x="4067280" y="1268280"/>
            <a:ext cx="1655640" cy="1152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9"/>
          <a:stretch/>
        </p:blipFill>
        <p:spPr>
          <a:xfrm>
            <a:off x="3851280" y="1484280"/>
            <a:ext cx="1655640" cy="1009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0"/>
          <a:stretch/>
        </p:blipFill>
        <p:spPr>
          <a:xfrm>
            <a:off x="4716360" y="2997360"/>
            <a:ext cx="1511280" cy="1079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1"/>
          <a:stretch/>
        </p:blipFill>
        <p:spPr>
          <a:xfrm>
            <a:off x="3059280" y="4508640"/>
            <a:ext cx="1511280" cy="1225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2"/>
          <a:stretch/>
        </p:blipFill>
        <p:spPr>
          <a:xfrm>
            <a:off x="6227640" y="2924280"/>
            <a:ext cx="1076400" cy="1218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3"/>
          <a:stretch/>
        </p:blipFill>
        <p:spPr>
          <a:xfrm>
            <a:off x="6156360" y="2924280"/>
            <a:ext cx="1076400" cy="121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4"/>
          <a:stretch/>
        </p:blipFill>
        <p:spPr>
          <a:xfrm>
            <a:off x="4427640" y="2997360"/>
            <a:ext cx="360360" cy="107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5"/>
          <a:stretch/>
        </p:blipFill>
        <p:spPr>
          <a:xfrm>
            <a:off x="4859280" y="1052640"/>
            <a:ext cx="1494000" cy="1323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84360" y="2565360"/>
            <a:ext cx="1081080" cy="432000"/>
          </a:xfrm>
          <a:prstGeom prst="wedgeRectCallout">
            <a:avLst>
              <a:gd name="adj1" fmla="val -6680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95640" y="2565360"/>
            <a:ext cx="1009800" cy="432000"/>
          </a:xfrm>
          <a:prstGeom prst="wedgeRectCallout">
            <a:avLst>
              <a:gd name="adj1" fmla="val -10689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2565360"/>
            <a:ext cx="1082880" cy="358920"/>
          </a:xfrm>
          <a:prstGeom prst="wedgeRectCallout">
            <a:avLst>
              <a:gd name="adj1" fmla="val -6597"/>
              <a:gd name="adj2" fmla="val 10175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4149720"/>
            <a:ext cx="1152720" cy="358920"/>
          </a:xfrm>
          <a:prstGeom prst="wedgeRectCallout">
            <a:avLst>
              <a:gd name="adj1" fmla="val -3166"/>
              <a:gd name="adj2" fmla="val 300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9280" y="4149720"/>
            <a:ext cx="1082520" cy="431640"/>
          </a:xfrm>
          <a:prstGeom prst="wedgeRectCallout">
            <a:avLst>
              <a:gd name="adj1" fmla="val -6597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4149720"/>
            <a:ext cx="1154160" cy="358920"/>
          </a:xfrm>
          <a:prstGeom prst="wedgeRectCallout">
            <a:avLst>
              <a:gd name="adj1" fmla="val -3097"/>
              <a:gd name="adj2" fmla="val 300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4149720"/>
            <a:ext cx="1081080" cy="358920"/>
          </a:xfrm>
          <a:prstGeom prst="wedgeRectCallout">
            <a:avLst>
              <a:gd name="adj1" fmla="val -6680"/>
              <a:gd name="adj2" fmla="val 300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5877000"/>
            <a:ext cx="1152360" cy="504720"/>
          </a:xfrm>
          <a:prstGeom prst="wedgeRectCallout">
            <a:avLst>
              <a:gd name="adj1" fmla="val -3166"/>
              <a:gd name="adj2" fmla="val 691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5950080"/>
            <a:ext cx="1441440" cy="503280"/>
          </a:xfrm>
          <a:prstGeom prst="wedgeRectCallout">
            <a:avLst>
              <a:gd name="adj1" fmla="val 7490"/>
              <a:gd name="adj2" fmla="val 709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88000" y="5950080"/>
            <a:ext cx="1296720" cy="431640"/>
          </a:xfrm>
          <a:prstGeom prst="wedgeRectCallout">
            <a:avLst>
              <a:gd name="adj1" fmla="val 2754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88000" y="5877000"/>
            <a:ext cx="1154160" cy="431640"/>
          </a:xfrm>
          <a:prstGeom prst="wedgeRectCallout">
            <a:avLst>
              <a:gd name="adj1" fmla="val -3097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5280" y="404640"/>
            <a:ext cx="8424720" cy="1312920"/>
          </a:xfrm>
          <a:prstGeom prst="rect">
            <a:avLst/>
          </a:prstGeom>
          <a:gradFill rotWithShape="0">
            <a:gsLst>
              <a:gs pos="0">
                <a:srgbClr val="eeb6ed"/>
              </a:gs>
              <a:gs pos="50000">
                <a:srgbClr val="ffffff"/>
              </a:gs>
              <a:gs pos="100000">
                <a:srgbClr val="eeb6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66ff"/>
                </a:solidFill>
                <a:latin typeface="Arial"/>
              </a:rPr>
              <a:t>دكاننا متنوع وفيه بضائع مختلفة و يتألف من ثلاثة أقسا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2276640"/>
            <a:ext cx="5545080" cy="2016000"/>
          </a:xfrm>
          <a:custGeom>
            <a:avLst/>
            <a:gdLst>
              <a:gd name="textAreaLeft" fmla="*/ 1265760 w 5545080"/>
              <a:gd name="textAreaRight" fmla="*/ 4279320 w 554508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2e484"/>
              </a:gs>
              <a:gs pos="50000">
                <a:srgbClr val="ffffff"/>
              </a:gs>
              <a:gs pos="100000">
                <a:srgbClr val="92e48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3300"/>
                </a:solidFill>
                <a:latin typeface="Arial"/>
              </a:rPr>
              <a:t>قسم الألعاب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4581360"/>
            <a:ext cx="4464000" cy="2016360"/>
          </a:xfrm>
          <a:custGeom>
            <a:avLst/>
            <a:gdLst>
              <a:gd name="textAreaLeft" fmla="*/ 1018800 w 4464000"/>
              <a:gd name="textAreaRight" fmla="*/ 3445200 w 4464000"/>
              <a:gd name="textAreaTop" fmla="*/ 460080 h 2016360"/>
              <a:gd name="textAreaBottom" fmla="*/ 15562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3c1f7"/>
              </a:gs>
              <a:gs pos="50000">
                <a:srgbClr val="ffffff"/>
              </a:gs>
              <a:gs pos="100000">
                <a:srgbClr val="f3c1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ff"/>
                </a:solidFill>
                <a:latin typeface="Arial"/>
              </a:rPr>
              <a:t>قسم الأدوات المدرسي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4508640"/>
            <a:ext cx="4067280" cy="2016000"/>
          </a:xfrm>
          <a:custGeom>
            <a:avLst/>
            <a:gdLst>
              <a:gd name="textAreaLeft" fmla="*/ 928440 w 4067280"/>
              <a:gd name="textAreaRight" fmla="*/ 3138840 w 406728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cc"/>
                </a:solidFill>
                <a:latin typeface="Arial"/>
              </a:rPr>
              <a:t>قسم النباتات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32000" y="1197000"/>
            <a:ext cx="324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قسم الألعاب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6080"/>
            <a:ext cx="8353440" cy="1079280"/>
          </a:xfrm>
          <a:prstGeom prst="flowChartProcess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0"/>
            <a:ext cx="2887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675640" y="0"/>
            <a:ext cx="2509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933720"/>
            <a:ext cx="8136000" cy="1295640"/>
          </a:xfrm>
          <a:custGeom>
            <a:avLst/>
            <a:gdLst>
              <a:gd name="textAreaLeft" fmla="*/ 83880 w 8136000"/>
              <a:gd name="textAreaRight" fmla="*/ 8052120 w 813600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135606" h="21600">
                <a:moveTo>
                  <a:pt x="0" y="0"/>
                </a:moveTo>
                <a:lnTo>
                  <a:pt x="135606" y="0"/>
                </a:lnTo>
                <a:lnTo>
                  <a:pt x="135606" y="21600"/>
                </a:lnTo>
                <a:lnTo>
                  <a:pt x="0" y="21600"/>
                </a:lnTo>
                <a:close/>
              </a:path>
              <a:path fill="lightenLess" w="135606" h="21600">
                <a:moveTo>
                  <a:pt x="0" y="0"/>
                </a:moveTo>
                <a:lnTo>
                  <a:pt x="135606" y="0"/>
                </a:lnTo>
                <a:lnTo>
                  <a:pt x="134206" y="1400"/>
                </a:lnTo>
                <a:lnTo>
                  <a:pt x="1400" y="1400"/>
                </a:lnTo>
                <a:close/>
              </a:path>
              <a:path fill="darken" w="135606" h="21600">
                <a:moveTo>
                  <a:pt x="135606" y="0"/>
                </a:moveTo>
                <a:lnTo>
                  <a:pt x="135606" y="21600"/>
                </a:lnTo>
                <a:lnTo>
                  <a:pt x="134206" y="20200"/>
                </a:lnTo>
                <a:lnTo>
                  <a:pt x="134206" y="1400"/>
                </a:lnTo>
                <a:close/>
              </a:path>
              <a:path fill="darkenLess" w="135606" h="21600">
                <a:moveTo>
                  <a:pt x="135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06" y="20200"/>
                </a:lnTo>
                <a:close/>
              </a:path>
              <a:path fill="lighten" w="135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80000" y="2924280"/>
            <a:ext cx="2303280" cy="136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284640"/>
            <a:ext cx="136872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308720" y="3141720"/>
            <a:ext cx="1333800" cy="1224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35280" y="119160"/>
            <a:ext cx="56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66ff"/>
                </a:solidFill>
                <a:latin typeface="Arial"/>
              </a:rPr>
              <a:t>دكان الأمان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82560" y="73080"/>
            <a:ext cx="1728720" cy="979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24360" y="3789360"/>
            <a:ext cx="136872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7380360" y="3573360"/>
            <a:ext cx="1333440" cy="1224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7380360" y="3429000"/>
            <a:ext cx="1333440" cy="122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7236000" y="3860640"/>
            <a:ext cx="1333440" cy="122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684360" y="3500280"/>
            <a:ext cx="1280880" cy="1638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2484360" y="2708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3924360" y="3068640"/>
            <a:ext cx="2303280" cy="2090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5651640" y="393372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3"/>
          <a:stretch/>
        </p:blipFill>
        <p:spPr>
          <a:xfrm>
            <a:off x="1979640" y="3789360"/>
            <a:ext cx="1008000" cy="1584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4"/>
          <a:stretch/>
        </p:blipFill>
        <p:spPr>
          <a:xfrm>
            <a:off x="2987640" y="3357720"/>
            <a:ext cx="106848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5"/>
          <a:stretch/>
        </p:blipFill>
        <p:spPr>
          <a:xfrm>
            <a:off x="1042920" y="2687760"/>
            <a:ext cx="1944720" cy="1317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380360" y="2708280"/>
            <a:ext cx="1079280" cy="504720"/>
          </a:xfrm>
          <a:prstGeom prst="wedgeRectCallout">
            <a:avLst>
              <a:gd name="adj1" fmla="val -6175"/>
              <a:gd name="adj2" fmla="val 871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24360" y="2708280"/>
            <a:ext cx="1224000" cy="504720"/>
          </a:xfrm>
          <a:prstGeom prst="wedgeRectCallout">
            <a:avLst>
              <a:gd name="adj1" fmla="val 453"/>
              <a:gd name="adj2" fmla="val 87106"/>
            </a:avLst>
          </a:prstGeom>
          <a:solidFill>
            <a:srgbClr val="87d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2421000"/>
            <a:ext cx="1295280" cy="504720"/>
          </a:xfrm>
          <a:prstGeom prst="wedgeRectCallout">
            <a:avLst>
              <a:gd name="adj1" fmla="val 3185"/>
              <a:gd name="adj2" fmla="val 871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2276640"/>
            <a:ext cx="1006560" cy="504720"/>
          </a:xfrm>
          <a:prstGeom prst="wedgeRectCallout">
            <a:avLst>
              <a:gd name="adj1" fmla="val -10254"/>
              <a:gd name="adj2" fmla="val 87106"/>
            </a:avLst>
          </a:prstGeom>
          <a:solidFill>
            <a:srgbClr val="87d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349360"/>
            <a:ext cx="934920" cy="505080"/>
          </a:xfrm>
          <a:prstGeom prst="wedgeRectCallout">
            <a:avLst>
              <a:gd name="adj1" fmla="val -14856"/>
              <a:gd name="adj2" fmla="val 871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2924280"/>
            <a:ext cx="936360" cy="504720"/>
          </a:xfrm>
          <a:prstGeom prst="wedgeRectCallout">
            <a:avLst>
              <a:gd name="adj1" fmla="val -14745"/>
              <a:gd name="adj2" fmla="val 87106"/>
            </a:avLst>
          </a:prstGeom>
          <a:solidFill>
            <a:srgbClr val="87d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1584360" cy="992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659640" y="3402000"/>
            <a:ext cx="2136600" cy="345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284720" y="2060640"/>
            <a:ext cx="4859280" cy="1509480"/>
          </a:xfrm>
          <a:prstGeom prst="cloudCallout">
            <a:avLst>
              <a:gd name="adj1" fmla="val 19162"/>
              <a:gd name="adj2" fmla="val 81439"/>
            </a:avLst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cc"/>
                </a:solidFill>
                <a:latin typeface="Arial"/>
              </a:rPr>
              <a:t>السلام عليكم ... كم ثمن هذه اللعبة يا عمي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708360" y="0"/>
            <a:ext cx="2376360" cy="141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948360" y="0"/>
            <a:ext cx="1370160" cy="1511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989000"/>
            <a:ext cx="4572000" cy="1152720"/>
          </a:xfrm>
          <a:prstGeom prst="cloudCallout">
            <a:avLst>
              <a:gd name="adj1" fmla="val -8782"/>
              <a:gd name="adj2" fmla="val 116527"/>
            </a:avLst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Arial"/>
              </a:rPr>
              <a:t>وعليكم السلام.... ثمن هذه اللعبة (</a:t>
            </a:r>
            <a:r>
              <a:rPr b="1" lang="ar-JO" sz="2800" spc="-1" strike="noStrike">
                <a:solidFill>
                  <a:srgbClr val="0000cc"/>
                </a:solidFill>
                <a:latin typeface="Arial"/>
              </a:rPr>
              <a:t>421</a:t>
            </a:r>
            <a:r>
              <a:rPr b="1" lang="ar-SA" sz="2800" spc="-1" strike="noStrike">
                <a:solidFill>
                  <a:srgbClr val="0000cc"/>
                </a:solidFill>
                <a:latin typeface="Arial"/>
              </a:rPr>
              <a:t> ) قرشا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0" y="3716280"/>
            <a:ext cx="3600360" cy="3141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0" y="404640"/>
            <a:ext cx="1655640" cy="100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58920" y="0"/>
            <a:ext cx="647640" cy="1387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5940360" y="476280"/>
            <a:ext cx="1743120" cy="141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2050920" y="281160"/>
            <a:ext cx="1660680" cy="1203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1042920" cy="1585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>
            <a:off x="0" y="1773360"/>
            <a:ext cx="9144000" cy="411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516720" y="2565360"/>
            <a:ext cx="2136600" cy="3456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476280"/>
            <a:ext cx="3851280" cy="2301840"/>
          </a:xfrm>
          <a:prstGeom prst="cloudCallout">
            <a:avLst>
              <a:gd name="adj1" fmla="val 11087"/>
              <a:gd name="adj2" fmla="val 70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معي</a:t>
            </a:r>
            <a:r>
              <a:rPr b="1" lang="ar-JO" sz="32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1" lang="ar-JO" sz="3200" spc="-1" strike="noStrike">
                <a:solidFill>
                  <a:srgbClr val="0000cc"/>
                </a:solidFill>
                <a:latin typeface="Arial"/>
              </a:rPr>
              <a:t> دنانير</a:t>
            </a: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،  تفضل يا ع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404640"/>
            <a:ext cx="4537080" cy="2589480"/>
          </a:xfrm>
          <a:prstGeom prst="cloudCallout">
            <a:avLst>
              <a:gd name="adj1" fmla="val -13750"/>
              <a:gd name="adj2" fmla="val 75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cc"/>
                </a:solidFill>
                <a:latin typeface="Arial"/>
              </a:rPr>
              <a:t>شكراً وتفضلي الباق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372360" y="4365720"/>
            <a:ext cx="866520" cy="1150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84360" y="3716280"/>
            <a:ext cx="3600360" cy="3141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79640" y="0"/>
            <a:ext cx="6121440" cy="2592360"/>
          </a:xfrm>
          <a:prstGeom prst="irregularSeal2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348000" y="2997360"/>
            <a:ext cx="1440000" cy="1022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308720" y="2492280"/>
            <a:ext cx="1366920" cy="1584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3276720" y="620640"/>
            <a:ext cx="3240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قسم النباتات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867280" y="2997360"/>
            <a:ext cx="1511280" cy="1079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716360" y="2852640"/>
            <a:ext cx="1076400" cy="1219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372360" y="4508640"/>
            <a:ext cx="2771640" cy="2349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0" y="2276640"/>
            <a:ext cx="1835280" cy="1728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1403280" y="2924280"/>
            <a:ext cx="2160720" cy="1147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50920" y="5300640"/>
            <a:ext cx="59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(وجعلنا من الماء كل شيء حي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0" y="4076640"/>
            <a:ext cx="9144000" cy="411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308720" y="1844640"/>
            <a:ext cx="1079640" cy="504720"/>
          </a:xfrm>
          <a:prstGeom prst="wedgeRectCallout">
            <a:avLst>
              <a:gd name="adj1" fmla="val 8527"/>
              <a:gd name="adj2" fmla="val 97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2276640"/>
            <a:ext cx="1081080" cy="504720"/>
          </a:xfrm>
          <a:prstGeom prst="wedgeRectCallout">
            <a:avLst>
              <a:gd name="adj1" fmla="val 8592"/>
              <a:gd name="adj2" fmla="val 97800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2349360"/>
            <a:ext cx="1008000" cy="505080"/>
          </a:xfrm>
          <a:prstGeom prst="wedgeRectCallout">
            <a:avLst>
              <a:gd name="adj1" fmla="val 5592"/>
              <a:gd name="adj2" fmla="val 97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2421000"/>
            <a:ext cx="1008000" cy="504720"/>
          </a:xfrm>
          <a:prstGeom prst="wedgeRectCallout">
            <a:avLst>
              <a:gd name="adj1" fmla="val 5592"/>
              <a:gd name="adj2" fmla="val 97800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63640" y="2276640"/>
            <a:ext cx="1152720" cy="504720"/>
          </a:xfrm>
          <a:prstGeom prst="wedgeRectCallout">
            <a:avLst>
              <a:gd name="adj1" fmla="val 11157"/>
              <a:gd name="adj2" fmla="val 97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700280"/>
            <a:ext cx="1187280" cy="504720"/>
          </a:xfrm>
          <a:prstGeom prst="wedgeRectCallout">
            <a:avLst>
              <a:gd name="adj1" fmla="val 12300"/>
              <a:gd name="adj2" fmla="val 97800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6:14:12Z</dcterms:created>
  <dc:creator>yaser</dc:creator>
  <dc:description/>
  <dc:language>en-US</dc:language>
  <cp:lastModifiedBy>user</cp:lastModifiedBy>
  <dcterms:modified xsi:type="dcterms:W3CDTF">2009-11-10T17:24:17Z</dcterms:modified>
  <cp:revision>21</cp:revision>
  <dc:subject/>
  <dc:title>الشريحة 1</dc:title>
</cp:coreProperties>
</file>